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97B-F8E2-4E73-9E82-556DA6D6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E15-7315-435C-885E-17920216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E36-C59A-4976-BEAC-2315327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9E6-223E-48BC-83C3-360D000C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466-FA1A-4240-9710-CBFB0FF8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AD1-BD8B-47CB-9B16-906173CA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254-CCAF-4ABF-9513-D97B1F64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3F0-21FE-43FC-9682-EAB7802C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529-ADC3-4BAB-8A08-0C1FA17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3F6-E42E-471D-A577-F9451A48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567-DF21-4FE9-B387-7FA2C8A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1C1-609F-4EC3-9A72-FF42774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664C-6482-42A5-9E5F-4F73C654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29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 muth2sys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********************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The model is writt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A*y(t+1/t) = B*y(t) + C(F)*x(t/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where C(F) = C0 + C1*F + C2*F^2 + ... + CN*F^N, where F is defin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forward shift operator; i.e., F*x(k/t) = x(k+1/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Output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C = [C0, C1,..., C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LPD = Array that contains locations of predetermined variable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      y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YLIST = Array of names of the elements of y (str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XLIST = Array of names of the elements of x (str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ny: Number of elements of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nx: Number of elements of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nlead: Number of leads of x(t+j/t) -- (i.e., n in the above equ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np: number of predeterm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LISTS OF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AND ASSOCIATED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lstmut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ad imut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system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y=rows(ylis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x=rows(xlis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lead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pd=[ik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*********************************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DEFINING THE MATRICES A, B AND C 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*********************************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Equations are written i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A*Ey(t+1)|I(t) = B*Ey(t)|I(t) + C(F)*Ex(t)|I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where C(F) = C0 + C1F + ... + CnF^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Initialize Matr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=zeros(ny,n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=zeros(ny,n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One lead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F=zeros(ny,2*n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list=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qn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Mode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gma=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lpha=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ta=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=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EQ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[elist,eqn]=ADDEQN('supply',elist,eq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(eqn,iq)=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(eqn,ip)=sig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(eqn,ik)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EQ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[elist,eqn]=ADDEQN('demand',elist,eq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(eqn,iq)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(eqn,ip)=alp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(eqn,ik)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F(eqn,ix)=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EQ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Mistake 1: Equation not added (EQ (2) overwrit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to correct this error remove the '%' sign in the nex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[elist,eqn]=ADDEQN('inventory',elist,eq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(eqn,ik)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Mistake 2: negative sign omitted: correct equations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A(eqn,ip)=-b*the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B(eqn,ip)=-the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(eqn,ip)=b*the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B(eqn,ip)=the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onsole"/>
              </a:rPr>
              <a:t>Undefined command/function 'MAKEID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22:30:04Z</dcterms:created>
  <dc:creator>Robert King</dc:creator>
  <dc:description/>
  <dc:language>en-US</dc:language>
  <cp:lastModifiedBy>Robert King</cp:lastModifiedBy>
  <dcterms:modified xsi:type="dcterms:W3CDTF">2004-10-07T22:30:04Z</dcterms:modified>
  <cp:revision>1</cp:revision>
  <dc:subject/>
  <dc:title>Slide 1</dc:title>
</cp:coreProperties>
</file>