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B146-ABA9-46BF-A656-80A5551A3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9C85-2C45-4F9E-A2C2-C0B46461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9F40-2739-4561-8BA3-29BAFB0C3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9C83-412C-423F-8A3E-491A842C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1F7D-CCB2-4B92-93B7-F9EFF18A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24E6-83F0-48AB-9F9B-DA0558A7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A551-53BC-4B5F-B455-606D6D4C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B70E-2E2A-4369-9FFD-198F49B2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7535-3217-4AF8-B4A5-BF0303C6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4BFC-823D-4CBF-AD60-FEC14EEF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E48C-A40A-4D39-99DF-ADAA4C69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B231-9986-4E51-8F29-A51DEB7E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234F-8FF8-47E4-8B1D-223D647DE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28600"/>
            <a:ext cx="8686800" cy="9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master.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Set path for KWRE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et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vlstr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calculate R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[M,PI,G,ylist,xlist,lpd,elist]=RESOLKW('linrbc','drvrbc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Set shock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mm=ROWS(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hock=zeros(1,m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c=input('Choose 1 for A shock and 2 for G shoc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f (sc==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A sh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hock(2)=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Gsh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hock(3)=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Compute impulse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ir=2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R=IMPKW(M,PI,G,ylist,xlist,lpd,shock,ni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% plot impulse respons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lotr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2286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Console"/>
              </a:rPr>
              <a:t>Error using ==&gt;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Console"/>
              </a:rPr>
              <a:t>Cannot call 'input' from eval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9T15:35:20Z</dcterms:created>
  <dc:creator>Robert King</dc:creator>
  <dc:description/>
  <dc:language>en-US</dc:language>
  <cp:lastModifiedBy>Robert King</cp:lastModifiedBy>
  <dcterms:modified xsi:type="dcterms:W3CDTF">2004-10-29T15:35:20Z</dcterms:modified>
  <cp:revision>1</cp:revision>
  <dc:subject/>
  <dc:title>Slide 1</dc:title>
</cp:coreProperties>
</file>